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475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1CB9-62AF-4F26-883E-38A7BBE86A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F1FC-C3AF-4C4B-89E9-16EC37077F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C52B-D78A-42BA-BDD0-871D9F4E3B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F1AA-514A-4708-936F-4CB854930F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38DD-5CF1-4D0F-8DE4-91FCA4E60C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9FA5-B8EA-437D-8E3E-F0405DB4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40E-538A-4C46-BDA9-A7103D9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B4D-E256-4EF7-A654-C7D89E04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7B1-45AF-40B3-81F9-665EBF21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342-4F78-4B3E-9095-03FB8CA8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2BE-342A-45ED-9EA0-AA2B5DDC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A8C-BA95-45B5-B443-602E34C8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4C1-DB9A-49A1-824F-0B8D4EA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676-A946-4A30-9C8D-46FD7386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2FD-8CD3-444A-AD50-0FFA7183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655-8A36-4872-AED5-9828384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288-B170-4579-B2B9-73F8A0C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47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BABD-F53E-4E1A-8066-FB00DB3808FE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47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47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475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475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hyperlink" Target="https://qimagery.information.qld.gov.au/" TargetMode="External"/><Relationship Id="rId4" Type="http://schemas.openxmlformats.org/officeDocument/2006/relationships/hyperlink" Target="http://qtopo.dnrm.qld.gov.au/Mobile/" TargetMode="External"/><Relationship Id="rId5" Type="http://schemas.openxmlformats.org/officeDocument/2006/relationships/hyperlink" Target="http://dnrm-floodcheck.esriaustraliaonline.com.au/floodcheck/" TargetMode="External"/><Relationship Id="rId6" Type="http://schemas.openxmlformats.org/officeDocument/2006/relationships/hyperlink" Target="https://www.qld.gov.au/housing/buying-owning-home/property-search/" TargetMode="External"/><Relationship Id="rId7" Type="http://schemas.openxmlformats.org/officeDocument/2006/relationships/hyperlink" Target="https://www.qld.gov.au/housing/buying-owning-home/property-search/" TargetMode="External"/><Relationship Id="rId8" Type="http://schemas.openxmlformats.org/officeDocument/2006/relationships/hyperlink" Target="https://www.qld.gov.au/housing/buying-owning-home/property-search/" TargetMode="External"/><Relationship Id="rId9" Type="http://schemas.openxmlformats.org/officeDocument/2006/relationships/hyperlink" Target="http://qldspatial.information.qld.gov.au/catalogue/custom/index.page" TargetMode="External"/><Relationship Id="rId10" Type="http://schemas.openxmlformats.org/officeDocument/2006/relationships/hyperlink" Target="https://qldglobe.information.qld.gov.au/" TargetMode="External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3.jpeg"/><Relationship Id="rId16" Type="http://schemas.openxmlformats.org/officeDocument/2006/relationships/image" Target="../media/image16.jpeg"/><Relationship Id="rId17" Type="http://schemas.openxmlformats.org/officeDocument/2006/relationships/image" Target="../media/image12.jpeg"/><Relationship Id="rId18" Type="http://schemas.openxmlformats.org/officeDocument/2006/relationships/image" Target="../media/image15.jpeg"/><Relationship Id="rId19" Type="http://schemas.openxmlformats.org/officeDocument/2006/relationships/image" Target="../media/image16.jpeg"/><Relationship Id="rId20" Type="http://schemas.openxmlformats.org/officeDocument/2006/relationships/image" Target="../media/image12.jpeg"/><Relationship Id="rId2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504720"/>
            <a:ext cx="11882520" cy="11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Arial"/>
              </a:rPr>
              <a:t>Queensland Spatial Catalogue (Qspatial)</a:t>
            </a:r>
            <a:endParaRPr b="0" lang="en-US" sz="50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38520" y="18572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an Beitzel</a:t>
            </a:r>
            <a:endParaRPr b="0" lang="en-US" sz="2400" spc="-1" strike="noStrike">
              <a:solidFill>
                <a:srgbClr val="1b475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Land Systems and </a:t>
            </a:r>
            <a:endParaRPr b="0" lang="en-US" sz="2000" spc="-1" strike="noStrike">
              <a:solidFill>
                <a:srgbClr val="1b475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patial Information Access</a:t>
            </a:r>
            <a:endParaRPr b="0" lang="en-US" sz="2000" spc="-1" strike="noStrike">
              <a:solidFill>
                <a:srgbClr val="1b475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13/6/2019</a:t>
            </a:r>
            <a:endParaRPr b="0" lang="en-US" sz="1400" spc="-1" strike="noStrike">
              <a:solidFill>
                <a:srgbClr val="1b4756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What we will cover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38080" y="1533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spcAft>
                <a:spcPts val="451"/>
              </a:spcAft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b4756"/>
                </a:solidFill>
                <a:latin typeface="Arial"/>
              </a:rPr>
              <a:t>Our approach to spatial information accessibility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spcAft>
                <a:spcPts val="451"/>
              </a:spcAft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b4756"/>
                </a:solidFill>
                <a:latin typeface="Arial"/>
              </a:rPr>
              <a:t>Overview of what is available 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spcAft>
                <a:spcPts val="451"/>
              </a:spcAft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b4756"/>
                </a:solidFill>
                <a:latin typeface="Arial"/>
              </a:rPr>
              <a:t>Overview of discovery and access mechanisms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spcAft>
                <a:spcPts val="451"/>
              </a:spcAft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b4756"/>
                </a:solidFill>
                <a:latin typeface="Arial"/>
              </a:rPr>
              <a:t>Look at QSpatial and how it works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Scope of data holdings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pic>
        <p:nvPicPr>
          <p:cNvPr id="167" name="Content Placeholder 3" descr=""/>
          <p:cNvPicPr/>
          <p:nvPr/>
        </p:nvPicPr>
        <p:blipFill>
          <a:blip r:embed="rId1"/>
          <a:srcRect l="0" t="2709" r="1155" b="1124"/>
          <a:stretch/>
        </p:blipFill>
        <p:spPr>
          <a:xfrm>
            <a:off x="1643040" y="1197000"/>
            <a:ext cx="88948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-130320"/>
            <a:ext cx="10515600" cy="11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Challenges – open data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533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1103400" y="1589040"/>
            <a:ext cx="5232240" cy="29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Relevant and authoritative spatial information covering all Queensland, available usefully to every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Evidenced by customers choo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at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How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7122960" y="1246320"/>
            <a:ext cx="3394080" cy="2197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" descr=""/>
          <p:cNvPicPr/>
          <p:nvPr/>
        </p:nvPicPr>
        <p:blipFill>
          <a:blip r:embed="rId2"/>
          <a:stretch/>
        </p:blipFill>
        <p:spPr>
          <a:xfrm>
            <a:off x="6745320" y="5468760"/>
            <a:ext cx="1219320" cy="122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8426520" y="5427720"/>
            <a:ext cx="1262160" cy="1262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4"/>
          <a:stretch/>
        </p:blipFill>
        <p:spPr>
          <a:xfrm>
            <a:off x="9955080" y="5423040"/>
            <a:ext cx="1265400" cy="1266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8104320" y="3546360"/>
            <a:ext cx="14364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What is available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38080" y="153324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240080" y="1063800"/>
            <a:ext cx="396108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1695600" y="2906640"/>
            <a:ext cx="12398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 u="sng">
                <a:solidFill>
                  <a:srgbClr val="0563c1"/>
                </a:solidFill>
                <a:uFillTx/>
                <a:latin typeface="Arial Black"/>
                <a:ea typeface="ＭＳ Ｐゴシック"/>
                <a:hlinkClick r:id="rId3"/>
              </a:rPr>
              <a:t>QImag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835760" y="2863800"/>
            <a:ext cx="824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 u="sng">
                <a:solidFill>
                  <a:srgbClr val="0563c1"/>
                </a:solidFill>
                <a:uFillTx/>
                <a:latin typeface="Arial Black"/>
                <a:ea typeface="ＭＳ Ｐゴシック"/>
                <a:hlinkClick r:id="rId4"/>
              </a:rPr>
              <a:t>QTop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1695600" y="3967200"/>
            <a:ext cx="1346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 u="sng">
                <a:solidFill>
                  <a:srgbClr val="0563c1"/>
                </a:solidFill>
                <a:uFillTx/>
                <a:latin typeface="Arial Black"/>
                <a:ea typeface="ＭＳ Ｐゴシック"/>
                <a:hlinkClick r:id="rId5"/>
              </a:rPr>
              <a:t>Floodche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1650960" y="4937040"/>
            <a:ext cx="1709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 u="sng">
                <a:solidFill>
                  <a:srgbClr val="0563c1"/>
                </a:solidFill>
                <a:uFillTx/>
                <a:latin typeface="Arial Black"/>
                <a:ea typeface="ＭＳ Ｐゴシック"/>
                <a:hlinkClick r:id="rId6"/>
              </a:rPr>
              <a:t>Property</a:t>
            </a:r>
            <a:r>
              <a:rPr b="0" lang="en-AU" sz="1300" spc="-1" strike="noStrike" u="sng">
                <a:solidFill>
                  <a:srgbClr val="0563c1"/>
                </a:solidFill>
                <a:uFillTx/>
                <a:latin typeface="Calibri"/>
                <a:ea typeface="ＭＳ Ｐゴシック"/>
                <a:hlinkClick r:id="rId7"/>
              </a:rPr>
              <a:t> </a:t>
            </a:r>
            <a:r>
              <a:rPr b="0" lang="en-AU" sz="1300" spc="-1" strike="noStrike" u="sng">
                <a:solidFill>
                  <a:srgbClr val="0563c1"/>
                </a:solidFill>
                <a:uFillTx/>
                <a:latin typeface="Arial Black"/>
                <a:ea typeface="ＭＳ Ｐゴシック"/>
                <a:hlinkClick r:id="rId8"/>
              </a:rPr>
              <a:t>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695600" y="2006640"/>
            <a:ext cx="1073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 u="sng">
                <a:solidFill>
                  <a:srgbClr val="0563c1"/>
                </a:solidFill>
                <a:uFillTx/>
                <a:latin typeface="Arial Black"/>
                <a:ea typeface="ＭＳ Ｐゴシック"/>
                <a:hlinkClick r:id="rId9"/>
              </a:rPr>
              <a:t>QSpat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7332840" y="1992240"/>
            <a:ext cx="2158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 u="sng">
                <a:solidFill>
                  <a:srgbClr val="0563c1"/>
                </a:solidFill>
                <a:uFillTx/>
                <a:latin typeface="Arial Black"/>
                <a:ea typeface="ＭＳ Ｐゴシック"/>
                <a:hlinkClick r:id="rId10"/>
              </a:rPr>
              <a:t>Queensland Glob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7915320" y="3967200"/>
            <a:ext cx="1657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Web Ser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7951680" y="4959360"/>
            <a:ext cx="1090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Geoco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1"/>
          <a:stretch/>
        </p:blipFill>
        <p:spPr>
          <a:xfrm>
            <a:off x="3382920" y="482112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12"/>
          <a:stretch/>
        </p:blipFill>
        <p:spPr>
          <a:xfrm>
            <a:off x="3116160" y="3757680"/>
            <a:ext cx="684360" cy="685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13"/>
          <a:stretch/>
        </p:blipFill>
        <p:spPr>
          <a:xfrm>
            <a:off x="9572760" y="3876840"/>
            <a:ext cx="604800" cy="60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14"/>
          <a:stretch/>
        </p:blipFill>
        <p:spPr>
          <a:xfrm>
            <a:off x="2868480" y="1859040"/>
            <a:ext cx="668520" cy="668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15"/>
          <a:stretch/>
        </p:blipFill>
        <p:spPr>
          <a:xfrm>
            <a:off x="9317160" y="2722680"/>
            <a:ext cx="684000" cy="68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16"/>
          <a:stretch/>
        </p:blipFill>
        <p:spPr>
          <a:xfrm>
            <a:off x="9317160" y="18572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17"/>
          <a:stretch/>
        </p:blipFill>
        <p:spPr>
          <a:xfrm>
            <a:off x="9502920" y="4873680"/>
            <a:ext cx="574560" cy="57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18"/>
          <a:stretch/>
        </p:blipFill>
        <p:spPr>
          <a:xfrm>
            <a:off x="9934560" y="1876320"/>
            <a:ext cx="669960" cy="668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19"/>
          <a:stretch/>
        </p:blipFill>
        <p:spPr>
          <a:xfrm>
            <a:off x="2901960" y="278604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" descr=""/>
          <p:cNvPicPr/>
          <p:nvPr/>
        </p:nvPicPr>
        <p:blipFill>
          <a:blip r:embed="rId20"/>
          <a:stretch/>
        </p:blipFill>
        <p:spPr>
          <a:xfrm>
            <a:off x="3513240" y="2854440"/>
            <a:ext cx="5745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Finding what you need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38080" y="1533240"/>
            <a:ext cx="10515600" cy="4351320"/>
          </a:xfrm>
          <a:prstGeom prst="rect">
            <a:avLst/>
          </a:prstGeom>
          <a:ln w="0">
            <a:noFill/>
          </a:ln>
        </p:spPr>
      </p:pic>
      <p:sp>
        <p:nvSpPr>
          <p:cNvPr id="199" name="Text Placeholder 2"/>
          <p:cNvSpPr/>
          <p:nvPr/>
        </p:nvSpPr>
        <p:spPr>
          <a:xfrm>
            <a:off x="2462040" y="1252440"/>
            <a:ext cx="6810480" cy="30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Same data is delivered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"/>
              </a:rPr>
              <a:t>Variety of means to 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terne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Queensland Government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Queensland Open Data 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QSpa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995400" y="1900080"/>
            <a:ext cx="1560600" cy="1560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3"/>
          <a:stretch/>
        </p:blipFill>
        <p:spPr>
          <a:xfrm>
            <a:off x="5138640" y="3568680"/>
            <a:ext cx="59436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8080" y="1533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b4756"/>
                </a:solidFill>
                <a:latin typeface="Arial"/>
              </a:rPr>
              <a:t>Finding relevant data and services in ArcGIS Online and our Portal for ArcGIS installations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1b4756"/>
                </a:solidFill>
                <a:latin typeface="Arial"/>
              </a:rPr>
              <a:t>Do we harvest or federate searches to those catalogues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1b4756"/>
                </a:solidFill>
                <a:uFillTx/>
                <a:latin typeface="Arial"/>
              </a:rPr>
              <a:t>Expectation is All</a:t>
            </a:r>
            <a:r>
              <a:rPr b="0" lang="en-AU" sz="2800" spc="-1" strike="noStrike">
                <a:solidFill>
                  <a:srgbClr val="1b4756"/>
                </a:solidFill>
                <a:latin typeface="Arial"/>
              </a:rPr>
              <a:t> items can have metadata – and can be found</a:t>
            </a:r>
            <a:endParaRPr b="0" lang="en-US" sz="28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b47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1b4756"/>
                </a:solidFill>
                <a:latin typeface="Arial"/>
              </a:rPr>
              <a:t>http://spatialappsdev:9000/catalogueadmin/catalog/search/search.page </a:t>
            </a:r>
            <a:endParaRPr b="0" lang="en-US" sz="2400" spc="-1" strike="noStrike">
              <a:solidFill>
                <a:srgbClr val="1b475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475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1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Future considerations</a:t>
            </a:r>
            <a:endParaRPr b="0" lang="en-US" sz="4400" spc="-1" strike="noStrike">
              <a:solidFill>
                <a:srgbClr val="1b47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06:18:53Z</dcterms:created>
  <dc:creator>GLASTONBURY Martin</dc:creator>
  <dc:description/>
  <dc:language>en-US</dc:language>
  <cp:lastModifiedBy>BEITZEL Ian</cp:lastModifiedBy>
  <cp:lastPrinted>2018-07-30T21:17:53Z</cp:lastPrinted>
  <dcterms:modified xsi:type="dcterms:W3CDTF">2019-06-12T09:01:13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DOCS AutoSave">
    <vt:lpwstr>20190612190106010</vt:lpwstr>
  </property>
</Properties>
</file>